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FC4D-0D14-426F-86B5-820B75491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095B-96B5-4964-89FF-69BA5E388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7AA3C8-8C77-4A13-B5D8-088CDF4D6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ED82B2-5571-4403-8389-2601C103D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9FECF4-E36A-4321-B6A2-560D1045E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55590D-30CD-4B5D-9198-30186B162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C4DB27-B50E-4981-B70F-37D551FBE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E8E639-08E5-4105-BBCB-A052965DE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FCC080-3BD2-498F-8B2E-656743C00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5801BE-66E2-4F52-9E40-982134EF2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212C12-A113-4E1D-8377-E98E84122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81DC9E-C028-47E3-8C42-D78D50FA3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D593-14E3-412A-AD62-6D6B62ADB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B41F38-B28D-425C-AE6F-4E3D592B7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68C781-FEED-47CD-A03E-C7F062575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5D8ECB-AFD2-4CDF-B700-0901D0C98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A14223-CAA1-4559-8A1E-E2D13314A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F5D0E2-B9EC-4591-981E-22D259202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A45D00-3753-46DA-BFE8-4A90B9C98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5194FA-0744-4DCF-BE20-36A7E2B3F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0B6861-1938-4E6F-80EA-417248981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7CCB61-5BEA-43D6-8CAE-E9B20A128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3729BD-0F1E-466F-9861-11C7FAB02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1652-AB88-404B-B8C9-4132C68F2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9A4C55-B387-462F-95D4-238BB25CA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3805F5-2500-4449-9ECB-0D515FDB0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C4E61A-941F-4027-B129-F069DF1A7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CA7026-0271-4F1A-8540-11AD613EE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B934D9-8A8C-40DF-B23A-FF75257B0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626AC4-520D-4B70-A858-C6E59CD57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B490F4-C02D-4690-9EDC-46AD153AD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397E25-D9EB-487F-AAF5-A6B6B0DC6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9756AD-0629-423D-B8B4-0EF1BC768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AEC338-6F28-45A4-9622-276E1338C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165DF-BCB3-4344-A3C7-E48FED4EA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0EC96E-83A2-44E1-BBBC-AEE6FE6A1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3C70BB-97BF-43F6-A516-70D338E45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D1AF51-82F4-4856-A248-279ED3107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FD9D3E-0DAA-44E1-806D-2D310A79D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400007-2D7F-45B8-98B9-46AD0B343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02948B-5B4B-4AE9-BEA5-2670CE641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BAEED7-82F4-4DF5-A1F3-01854EC04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BDC14F-D241-4EB6-86A8-0230EC4F7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BAD34B-44FE-41B3-97E9-8616C1398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4FD62D-FC1A-492C-92CA-6C61EE569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D732A-731E-4ACA-9781-7EF705697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FABB39-FEED-424B-AF7F-9E3DF0A7F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14E999-6331-44F0-8A33-1164387A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7A62C0-BC2A-429B-9A9A-CF5C7C4B7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2D1FEB-CD75-4DFA-A6FF-0AD0CD964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FDB795-F5D8-44F2-82C2-89FB26119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560EC1-5C5B-424F-9D25-6023BFAA9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531F11-1CB8-43FF-8ED6-9340BC6B1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4D2E81-922B-4736-BFF9-E43E3327F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C1F1F7-DB96-441B-8C9D-7787BE0A1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141F8E-AA84-455C-8C78-4F2FDB460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A6446-B268-4365-BB9F-088256CD4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17E86F-8787-4FB9-99AA-E60736EE1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84A7A5-E452-4D88-9DD8-AA9E506FB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59B0EA-182D-4EA3-B7F1-3623696C4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1E594C-8482-4B02-852C-AF12034BB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C42D8D-9EFE-43BE-9673-6CC17B721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80161C-73F0-40E1-879E-D4D1F0651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026763-D982-46A9-BA06-EB61B1BC4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451580-998A-4ED9-AA50-BDBC7161D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18F9BC-4A5C-4D04-B00A-72AA2BBAB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589E69-E118-4BD9-8639-79DEAF5AC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343DF-5DCD-4641-9A7A-0242BBFE2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EFDCD7-0A26-49AF-9687-81523CA81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547A8B-B270-4FE5-876D-7DC212120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DD71D1-26C7-4574-8ECD-60001E186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BAC4B7-594C-49BF-BAC1-CF552C951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E721F1-F44D-4796-86AA-5B45D1DFA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F42077-0120-44F8-97D0-041E02E73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322787-D684-4BA3-9B35-4288212CA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AF39A8-7B6B-4D48-B9A0-0FCE4F6A2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0F2DFB-6B76-4F49-9DFD-8EE68E32B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775164-8048-4248-8758-20B9D01D6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839F0-5778-4FB8-9565-430D99172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C443C2-155A-4348-B342-CB7F7F00E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683456-8517-4038-8E51-F4A2B92D9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BD806F-1859-4B81-9384-C3DDB9733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7A8748-C117-4301-A177-4B5473303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422539-15A0-4D27-9621-19433B87A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2D7532-911C-49EC-BB03-6E798894D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D0CB37-08C1-40F1-8E48-8F86D0B87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B234A6-9BB4-403F-A212-3356FB447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E2615B-0391-437E-BEFF-CA75711F6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996302-3DE4-40B4-BB8C-D4908B034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8AD49-6AE6-4206-8A90-5428C7A26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043038-471D-4418-9A4E-F4B810005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8166D1-BBD3-4ABA-8867-F73E50B7C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336F09-6506-4033-A857-4A0EE89C6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4E1CAA-0D89-4F35-AD4C-94120B688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4523BC-CF86-4A5B-9B23-11BD68C17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132355-CDB9-4155-B46B-FBBD20E19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4956B0-A8D7-4BD6-8A33-55A1CBA67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7096FF-4086-479D-A0DE-9CF4C58C2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898B4E-4276-4951-8684-5CAB05831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C8A956-A621-4482-BCE6-D3E50C57E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33E81-D47E-409A-B742-4DE773356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A78997-445A-4F91-BEAB-329A7360B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AB69EF-5FB1-481B-9152-2B6F3D0DB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4E6B68-A67F-46DA-B571-7FC7DAAB5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A2D4A2-E114-4C94-A2A1-E43285006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40E4D0-761B-45EB-B405-3654FECD1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30E90A-E345-4720-BBAF-1CC65D666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5F86C3-8E0D-40A2-9C65-4FCA61949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64D0F8-8140-4380-A6FD-EF71D18F5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829275-B5E4-4B60-B86B-C9CB7587E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8939CA-EB29-42A5-8378-0CC141635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AEB1-9FDB-460F-8EAD-AADD938C7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76BFE-013C-472A-B1F9-3A3B68887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50B6FC-E2B4-44D2-A833-9AB8EB63D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C5B49C-41DE-4509-B3FD-7260C4114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743A33-B880-4E6C-AA98-2A8DDDD81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361E4C-AB19-4456-B751-0635A8D47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F42690-1E04-4EDB-8533-69C02C932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D8FEB2-3804-4CE7-9644-F005500C6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E7B8DF-1C39-40A0-89F1-E34422AA5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D16CAC-6F62-4474-A9CD-2391B0CFD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C0ACDA-812F-41DA-B18C-C9A1E156B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E98BB3-87B7-4A44-ABEC-4A1A45BE7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82A8D-E3B1-4C25-8FC2-353F21509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67A632-88A8-4BC3-BFA8-434050A48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1BD1E2-FD1C-4929-8393-65F3E68A9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9D3F57-C028-471D-8A59-6190B539C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B72F28-E2FC-4414-AC6C-A3948A7B6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773EB7-E0DF-4BD2-BEAD-93CF7FB6C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4F4E0A-6B93-4EBC-B2E0-DA032E587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FB4993-50C5-4F0E-900A-ACB63D577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E4319B-62DF-471F-8677-3C3F8335A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C5C8FF-3713-4951-94DE-10593CACA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5906FF-2ACF-450F-AFF0-AB635D3DA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4FC8B-BBA5-48BA-9895-D59D623B8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9CC27C-C756-4D81-823F-044DD437C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F72541-29B8-444A-A56A-4DBDB2C3C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A585F8-EEFE-455B-A17D-7D770EB5C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DD88DA-BB1F-4595-8C1F-48E918A1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15FE2E-E98A-4519-98E9-9E33926A2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44B4C1-8420-493E-829B-A85525C8D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33D542-D361-49C8-B7FC-B20B24F56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3E681A-D8E5-41D3-9574-81CC37202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78EB21-4505-4B0E-ABCF-C5F938947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37EF43-8BE1-4DA4-965F-64918F18F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9AE2C-2603-4C77-9D88-E1F03E1BD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E22DD3-CB26-4EC0-AC0D-67CBB3817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AAFFEA-8EC1-4A46-AA97-F9D9EAB03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E033E8-4AD7-45E7-BD8B-4CC6BD13D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4CB919-4A4A-4997-AB7F-6336367A5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646955-91FF-4D4F-9BE5-B6213E201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F8ADE7-08C9-4525-B5B3-0D64BFE0C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B2728F-385A-4186-BD2E-2FBC0073E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9D9406-753B-4300-A163-3255A5958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D3CFA4-9C4E-4475-9AD4-446F6E6E4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EE5325-3256-4900-BE4B-962F1267A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BC2B6-BDE2-439D-B3D1-4E3318239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728CA2-A2E6-4456-8A34-44E300B0E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2BF86C-7640-4E35-AE58-0C8F2DAC6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149B61-8657-4CD0-A720-B501A38BC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19B7FC-4CD6-4287-B457-2A5064AEA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F6AA3D5-0882-4A66-93F3-9D8AEE2A1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86B177-1424-4D2E-8BBF-BB0A08AD4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9E02B3-A410-4C54-9AB7-B4D0CE51C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C17FAC5-2B49-4029-B020-AF1FD99EA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7E3725-1086-497F-B427-96F8751B0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F757606-BA17-407A-82A1-B8883EE5E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9EB27-03FD-445C-B5DC-C9AD65B09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68A42E4-6AC3-4504-8728-9B323FC4F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848A30A-9DE5-48A3-97AE-CC63A4086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CBCADB-57C2-43B9-BA89-3FC825633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E484C-8415-4A4F-A70F-4F547D68F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1ABD3-C055-4810-A9C0-602A0139A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89E99-18A4-4006-A0E1-D315A725A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4BC63-F0D6-4377-9CD5-B67DEDB37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A6C3-4F04-4598-B752-771056983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5B00A-EBE9-44B6-8681-46C51A719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7C0FC-4776-46D9-9F31-D74A8F68B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BC027-496B-4E4B-91C6-486DE8648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A4E25-36EA-4718-8E3A-BFC02004A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7F7A5-40D0-474C-9361-7F720CA9A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1F92E-8F46-436C-A356-440180B10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1807A-97F5-42C6-8CA3-BC8F90C6F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DD852-A2A5-475B-BC3F-5107C3DBE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763C5-844D-49B3-A09A-E2C40CE1D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16488-0155-47D0-BFB0-65606BE04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AA03-267B-428D-840D-F917B20DA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D276A-6958-489B-A2A5-6DCE73880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954EF4-1DD9-4829-B2C0-DD57FF63B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53AA98-2485-4C68-9644-9B2369461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04F89-90BC-41CD-B040-20C17EAC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36FCD8-22EF-4537-AB39-B34766047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954B6-540F-4940-8738-CAD6B5E11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7EC0C0-E547-4DA3-B299-4888DD0D9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F8E29-A0F0-487A-A565-63ACFBDFC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2DA2C-2D9A-4D23-B260-8CF281BF8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F6662A-488B-4C33-A101-D3CA2DDFD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3BAD-3868-4729-AD85-434CCCBDB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2AE16A-E38F-4C80-85A7-195BCB83D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9D24C9-835B-495C-86E4-3B406C86C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823F0C-38B8-4CD9-9BB6-92C6681C4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E1E619-40F0-4F32-9B81-388A75A97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AA0D61-5169-4856-B284-A51291005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C49DEA-EA08-44EE-8C32-FAD0857F8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7AF34F-E2BC-4BDD-8903-A5A453F8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EBD8DE-08B2-4C29-BC53-1B0F34496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995F7C-1937-415D-91B9-5CBAAA9E3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6C7BA4-16F9-4762-81DD-B353191FF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DC27-7A38-4D55-A537-DD600733E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598F2C-8123-4C26-B78A-82EE0CF6C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1C71A8-7F8F-4CBF-BC01-F61F8078A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315DCD-7082-451A-BC83-08588FACD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9E177D-3AAA-4BF8-980F-E6BE27FFE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4DD5B5-DD8E-4B2C-AE88-2ED1622C0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43FC09-21C2-4BA0-8FCC-0D49460D0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25B0EC-D3F7-4134-956A-C3B8B8538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6CAA3D-B717-464D-8C98-B0DB512FF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AF018A-1CE1-43CB-B240-9F1462310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FF583D-5170-4E2D-957A-B5616786A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630C-A503-442A-8299-74FCAF8B5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343F57-62BE-4786-9C94-A6CD8E9D7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BCAA2A-EE17-4DDE-A05F-6C7D61D39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26BE91-0BB3-430C-9C4C-F4876ED1B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4391FF-0500-4673-B3A1-F524C9FE3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0E3ACA-EF30-4E1D-9D8A-EC546626F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13DFEC-8BD4-4616-9DF5-796342654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1A6D2F-87ED-40A8-BFB2-600CA51F2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4C5DF9-6699-4DBB-946B-9243A5FB5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054AF1-D133-47F5-85AA-CAA153900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F7F32F-A826-4BA6-8F3E-DF1F8918B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A544-7A71-4D2C-B6E1-19619B5F6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9A9918-9F23-476C-BD3A-0EC38E289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770E27-F2CD-416B-9C6B-5D4EF3D3C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0E35D2-E80A-42B3-8D5D-42C846D84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53F553-0B5F-4E0D-955B-5DB82BD54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82A707-9768-41C7-A61D-D50E3F3CD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CE718E-856A-42B0-B9B5-1A5EE1536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828FEE-30A3-459B-95F3-90D9C2E0E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DD1524-94AE-4E54-BFB5-63EBBB1D5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0DAF3A-D53D-44F9-94A6-5A72FDE5F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4A164D-14DF-4CE1-B5DF-51B18991C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1176-60D2-4B78-93E8-E38AB43AF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DBBA3D-8DAE-4D86-9E92-3F62520DA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FDF0D7-0106-4A59-8B13-CCA0F865F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98961B-D806-4C59-8533-B003F043B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56181E-C1F1-4DDE-99E7-ABDB8C77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626DE2-AF6B-45BE-9896-3A1CBCADD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D95F96-72D4-4F7B-B070-62B512B4F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176A96-77DD-4B2D-AF11-9688AD7B0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80FF6D-9BAB-4E4F-BC4C-4AE018202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81BACE-A42F-4FF8-A7F0-E467009D5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65F378-3E1E-4A34-88B5-352E8CC3F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4264A-7166-4880-B73F-6A5E9098E92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7E939-2F65-4DCC-90B2-85F51C32D5D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71548-A0A3-484B-85B9-2A04BDE89D1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98845-58FF-425E-85FC-ABBDA633814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9E572-AB47-4197-B25B-78AF45AB834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3DC0F-B2A0-47E3-BA41-D6A499729AC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F60B8-30F5-4A2A-9214-26416A05E71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6F4ED-3DA3-45F2-8CAD-DAE9FFE934C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99241-9184-44F0-BF25-5555F7DED03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6C5B1-977E-4EE4-B430-2142819C90C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ED8D4-20B9-42FC-AABD-9E973B8D80F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964BE-B260-4692-A608-A35BBE87079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FC68A-30E3-4D51-8A7D-17BE8A60246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3A9A2-ED16-4B14-BDFE-5D67B8E6A93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D2DF0-0A4E-4FEB-8923-75631D0A98E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581E4-6C30-47C5-9E9C-ABB62F9AB0B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8FF5D-4C2C-4893-BA8D-C65BFBE3DAD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A80D4-8B83-43B2-94D1-708A87FA9FB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8E43F-88C3-4CEC-B78F-B10695E9F8C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FFF1F-D45C-430F-94FA-58865E09C0B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2486D-F9D6-4CDA-9A72-2663DAEAE20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639B1-6666-4B53-95A3-5C0199CE330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5BCDB-BF63-4EBE-A7B2-76AA4B44250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A1582-B740-402C-896A-75330D5BD68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22B5E-6E64-4355-AAB6-42E471CEEF0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196E1-FACD-4ABF-A0AA-3B2121B2826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02B1C-D529-44A3-A829-3C79893D4E0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912FC-CBDB-41B4-A72A-095799D67A4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5381D-9B20-4BFE-9292-E9E5900A145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83D56-9E44-48BC-AA80-A5C0046758C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DBDD2-A2D2-4B80-A31A-A1F75735D81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834EC-DF9F-4BE5-9729-BE4D7C99EF4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94067-8833-41CB-95DA-09A730E4ACE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D8072-9839-474A-8BA6-B36369B033E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34DCB-F11A-48CC-98B8-4359EEC86C5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86A63-6990-4BDF-8B75-E58D7BC764F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55A1B-70E4-4C2E-9C23-696A09D8592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E3F41-65FE-4EDC-8A20-7F76A6F6F74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583D6-8A47-450D-84B1-9310B885800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C342F-6669-47B7-A610-3018CE92099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395280" y="2637000"/>
            <a:ext cx="8410680" cy="171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0" name="图片 69633" descr=""/>
          <p:cNvPicPr/>
          <p:nvPr/>
        </p:nvPicPr>
        <p:blipFill>
          <a:blip r:embed="rId1"/>
          <a:stretch/>
        </p:blipFill>
        <p:spPr>
          <a:xfrm>
            <a:off x="243000" y="771480"/>
            <a:ext cx="8658000" cy="561024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2"/>
          <a:stretch/>
        </p:blipFill>
        <p:spPr>
          <a:xfrm>
            <a:off x="2340000" y="3170160"/>
            <a:ext cx="4464000" cy="44784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3"/>
          <a:stretch/>
        </p:blipFill>
        <p:spPr>
          <a:xfrm>
            <a:off x="2340000" y="3803760"/>
            <a:ext cx="4464000" cy="44748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4"/>
          <a:stretch/>
        </p:blipFill>
        <p:spPr>
          <a:xfrm>
            <a:off x="3059280" y="4451400"/>
            <a:ext cx="4464000" cy="44748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5"/>
          <a:stretch/>
        </p:blipFill>
        <p:spPr>
          <a:xfrm>
            <a:off x="2987640" y="5113440"/>
            <a:ext cx="4464000" cy="44748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6"/>
          <a:stretch/>
        </p:blipFill>
        <p:spPr>
          <a:xfrm>
            <a:off x="6084720" y="5791320"/>
            <a:ext cx="23036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66760" y="573120"/>
            <a:ext cx="8610480" cy="609588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3708360" y="1527120"/>
            <a:ext cx="2303640" cy="4478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5292720" y="2349360"/>
            <a:ext cx="647640" cy="4478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7236000" y="2290680"/>
            <a:ext cx="647640" cy="4478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7164360" y="3875040"/>
            <a:ext cx="1152720" cy="4478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4498920" y="4653000"/>
            <a:ext cx="1009800" cy="44748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3924360" y="5402160"/>
            <a:ext cx="1368360" cy="44784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1792440" y="6180120"/>
            <a:ext cx="10094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0" name="图片 59410" descr=""/>
          <p:cNvPicPr/>
          <p:nvPr/>
        </p:nvPicPr>
        <p:blipFill>
          <a:blip r:embed="rId1"/>
          <a:stretch/>
        </p:blipFill>
        <p:spPr>
          <a:xfrm>
            <a:off x="566640" y="2738520"/>
            <a:ext cx="8010720" cy="138096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2"/>
          <a:stretch/>
        </p:blipFill>
        <p:spPr>
          <a:xfrm>
            <a:off x="6689880" y="2781360"/>
            <a:ext cx="15397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2" name="图片 58373" descr=""/>
          <p:cNvPicPr/>
          <p:nvPr/>
        </p:nvPicPr>
        <p:blipFill>
          <a:blip r:embed="rId1"/>
          <a:stretch/>
        </p:blipFill>
        <p:spPr>
          <a:xfrm>
            <a:off x="281160" y="946080"/>
            <a:ext cx="8581680" cy="5362560"/>
          </a:xfrm>
          <a:prstGeom prst="rect">
            <a:avLst/>
          </a:prstGeom>
          <a:ln w="0">
            <a:noFill/>
          </a:ln>
        </p:spPr>
      </p:pic>
      <p:pic>
        <p:nvPicPr>
          <p:cNvPr id="933" name="图片 58374" descr=""/>
          <p:cNvPicPr/>
          <p:nvPr/>
        </p:nvPicPr>
        <p:blipFill>
          <a:blip r:embed="rId2"/>
          <a:stretch/>
        </p:blipFill>
        <p:spPr>
          <a:xfrm>
            <a:off x="1504800" y="3905280"/>
            <a:ext cx="734400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4" name="图片 57352" descr=""/>
          <p:cNvPicPr/>
          <p:nvPr/>
        </p:nvPicPr>
        <p:blipFill>
          <a:blip r:embed="rId1"/>
          <a:stretch/>
        </p:blipFill>
        <p:spPr>
          <a:xfrm>
            <a:off x="738360" y="2557440"/>
            <a:ext cx="7667280" cy="174312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2"/>
          <a:stretch/>
        </p:blipFill>
        <p:spPr>
          <a:xfrm>
            <a:off x="5003640" y="3184560"/>
            <a:ext cx="3168720" cy="44748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3"/>
          <a:stretch/>
        </p:blipFill>
        <p:spPr>
          <a:xfrm>
            <a:off x="2714760" y="3687840"/>
            <a:ext cx="28796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7" name="图片 56324" descr=""/>
          <p:cNvPicPr/>
          <p:nvPr/>
        </p:nvPicPr>
        <p:blipFill>
          <a:blip r:embed="rId1"/>
          <a:stretch/>
        </p:blipFill>
        <p:spPr>
          <a:xfrm>
            <a:off x="590400" y="209520"/>
            <a:ext cx="7963200" cy="643896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2"/>
          <a:stretch/>
        </p:blipFill>
        <p:spPr>
          <a:xfrm>
            <a:off x="1476360" y="2637000"/>
            <a:ext cx="2590920" cy="4474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3"/>
          <a:stretch/>
        </p:blipFill>
        <p:spPr>
          <a:xfrm>
            <a:off x="1533600" y="3371760"/>
            <a:ext cx="2590560" cy="44784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4"/>
          <a:stretch/>
        </p:blipFill>
        <p:spPr>
          <a:xfrm>
            <a:off x="5292720" y="2622600"/>
            <a:ext cx="2590920" cy="44748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5"/>
          <a:stretch/>
        </p:blipFill>
        <p:spPr>
          <a:xfrm>
            <a:off x="5392800" y="3357720"/>
            <a:ext cx="2303280" cy="44748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6"/>
          <a:stretch/>
        </p:blipFill>
        <p:spPr>
          <a:xfrm>
            <a:off x="5435640" y="4897440"/>
            <a:ext cx="1152360" cy="44784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7"/>
          <a:stretch/>
        </p:blipFill>
        <p:spPr>
          <a:xfrm>
            <a:off x="1433520" y="5430960"/>
            <a:ext cx="1554120" cy="44748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8"/>
          <a:stretch/>
        </p:blipFill>
        <p:spPr>
          <a:xfrm>
            <a:off x="2556000" y="5992920"/>
            <a:ext cx="27367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图片 55300" descr=""/>
          <p:cNvPicPr/>
          <p:nvPr/>
        </p:nvPicPr>
        <p:blipFill>
          <a:blip r:embed="rId1"/>
          <a:stretch/>
        </p:blipFill>
        <p:spPr>
          <a:xfrm>
            <a:off x="285840" y="809640"/>
            <a:ext cx="8572320" cy="523872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2"/>
          <a:stretch/>
        </p:blipFill>
        <p:spPr>
          <a:xfrm>
            <a:off x="7667640" y="1700280"/>
            <a:ext cx="647640" cy="44748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3"/>
          <a:stretch/>
        </p:blipFill>
        <p:spPr>
          <a:xfrm>
            <a:off x="7596360" y="2997360"/>
            <a:ext cx="647640" cy="44748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4"/>
          <a:stretch/>
        </p:blipFill>
        <p:spPr>
          <a:xfrm>
            <a:off x="7596360" y="4307040"/>
            <a:ext cx="647640" cy="44748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5"/>
          <a:stretch/>
        </p:blipFill>
        <p:spPr>
          <a:xfrm>
            <a:off x="7667640" y="5603760"/>
            <a:ext cx="6476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0" name="图片 54276" descr=""/>
          <p:cNvPicPr/>
          <p:nvPr/>
        </p:nvPicPr>
        <p:blipFill>
          <a:blip r:embed="rId1"/>
          <a:stretch/>
        </p:blipFill>
        <p:spPr>
          <a:xfrm>
            <a:off x="223920" y="976320"/>
            <a:ext cx="8696160" cy="490536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2"/>
          <a:stretch/>
        </p:blipFill>
        <p:spPr>
          <a:xfrm>
            <a:off x="2239920" y="2133720"/>
            <a:ext cx="432000" cy="38232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3"/>
          <a:stretch/>
        </p:blipFill>
        <p:spPr>
          <a:xfrm>
            <a:off x="2239920" y="2982960"/>
            <a:ext cx="432000" cy="38268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4"/>
          <a:stretch/>
        </p:blipFill>
        <p:spPr>
          <a:xfrm>
            <a:off x="1692360" y="3832200"/>
            <a:ext cx="431640" cy="38268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5"/>
          <a:stretch/>
        </p:blipFill>
        <p:spPr>
          <a:xfrm>
            <a:off x="2368440" y="3860640"/>
            <a:ext cx="432000" cy="38268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6"/>
          <a:stretch/>
        </p:blipFill>
        <p:spPr>
          <a:xfrm>
            <a:off x="1692360" y="5343480"/>
            <a:ext cx="431640" cy="38268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7"/>
          <a:stretch/>
        </p:blipFill>
        <p:spPr>
          <a:xfrm>
            <a:off x="2368440" y="5372280"/>
            <a:ext cx="432000" cy="38232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8"/>
          <a:stretch/>
        </p:blipFill>
        <p:spPr>
          <a:xfrm>
            <a:off x="2987640" y="5345280"/>
            <a:ext cx="432000" cy="38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8" name="图片 52231" descr=""/>
          <p:cNvPicPr/>
          <p:nvPr/>
        </p:nvPicPr>
        <p:blipFill>
          <a:blip r:embed="rId1"/>
          <a:stretch/>
        </p:blipFill>
        <p:spPr>
          <a:xfrm>
            <a:off x="404640" y="843120"/>
            <a:ext cx="8334720" cy="517176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2"/>
          <a:stretch/>
        </p:blipFill>
        <p:spPr>
          <a:xfrm>
            <a:off x="1042920" y="5487840"/>
            <a:ext cx="3816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7T08:05:39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